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2F99-E652-4315-BE43-E490AB1A0C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0B7D-786C-44A2-AD37-AF06C1B42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00C0-814F-4B56-92A4-3D4C60B8A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6AC71-217A-4EB2-B2EB-92EE56C17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839B-30A7-4219-9B6F-9E74BD946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914B-BB8E-45F4-B58D-22EF40CC3F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F6B5-D5BF-46BF-ADE2-A0ACDE6210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44340-F77D-4626-9C58-B3E4E9307B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05640-F83D-4685-99E7-F9E230D003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D42EC-3C7C-403A-B828-3CE9D5DD12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724F-BD6A-4C50-AD12-C34F782314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2BC5A-816E-4BDD-85D1-C88CEAD742B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370DD-B81E-4484-A844-ED92F3564F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0FC5-F2F3-4389-B811-8CD3456A25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58201-1E79-4CAE-979C-E4E27D8326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DF9E9-4EAD-431C-ADDD-D4CB85748D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DC135-7322-4552-B7B5-BD48DDDE85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2E95-390A-45F5-8FFE-A604A2103A0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2664-FD8F-4F93-AE2B-DBADAB479A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E4C4-CF21-4F8D-87FD-198D0853A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6AB9-A641-4F35-9A64-C086D3066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8604-1B9A-4B8B-8732-441DA1500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2149-91BA-4D54-B26F-4212D6D04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B132-7142-408E-AA80-F39CAA526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4C8C-D722-466C-BEC0-33741EEDA0BC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3244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2600" y="6548400"/>
            <a:ext cx="7199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F5A8-03EE-4E4F-99C1-8869490618F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visualranking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5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roducing the Visual Ranking Too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6: Reflecting On Your Use of the Too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07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ing on your use of the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benefits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16B01-6EDD-4FFB-B49C-CBE71F2E5E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37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viewing the Power of Visual Rankin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5.0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wer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igned to support the type of activities that cover the entir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ange of cognitive skill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idering How the Visual Ranking Tool Can b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egrated into a Classroom Projec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5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tool is open-ended and content fre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tool can be integrated into existing units and project pla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e tool supports a variety of strategi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2B06-7B97-4B44-9D07-B4E4FC7982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Viewing Project Idea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576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Viewing Sample Project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1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http://www.intel.com/education/visualranking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 Examp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lect two or three project or unit examp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 how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is used in each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te your thoughts and ide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90400" indent="-34272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itional project examples in Appendix C.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EB08-CC14-41B3-849A-F158FF8024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nking about Your Uni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11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ideas for effective uses of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your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er to the Project Rubric on page 2.18 to help clarify your ide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5D860-B4E9-4C5A-BAF5-8A9687D713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Summar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5.1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5760" y="1600200"/>
          <a:ext cx="8237520" cy="266652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1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5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247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Aft>
                          <a:spcPts val="451"/>
                        </a:spcAft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ny project that has students prioritizing, choosing among options, and/or evaluating different perspectives could benefit from the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•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 Tool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an be used at any stage of a learning project to help students discuss their prior knowledge, put learning in a new context, or to assess or reflect on learning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AE12-F311-4246-8215-83729E23F0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ule 6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idering th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isual Ranking Tool for Your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y out a project idea that incorporates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o your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, share, and reflect on a practice ra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experience us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F0241-5F36-433E-9A2F-4043ED9AD2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4A62-959C-4ED2-B757-2EC2311623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84596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rgeting Thinking in the Classro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signing Standards-Based Project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749"/>
              </a:spcBef>
              <a:spcAft>
                <a:spcPts val="499"/>
              </a:spcAft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Curriculum-Framing Question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inking Skill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scuss assessment method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se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Showing Evidence Too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o evaluate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 a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sessment idea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raft an Assessment P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scuss best uses of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B197-B3D0-49BA-9C90-04466A23D1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5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Visual Ranking Tool to Target Thinking Skills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best uses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a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9DE14-6F7D-4956-AEB7-08B04BE43F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2967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57200" y="1066680"/>
          <a:ext cx="8237520" cy="4343400"/>
        </p:xfrm>
        <a:graphic>
          <a:graphicData uri="http://schemas.openxmlformats.org/drawingml/2006/table">
            <a:tbl>
              <a:tblPr/>
              <a:tblGrid>
                <a:gridCol w="1906560"/>
                <a:gridCol w="633096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6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Visual Ranking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7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9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0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ng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FCD1E-E6BF-47A0-9371-B18BDCE2C5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Module 5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Visual Ranking Tool to Target Thinking Skil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7624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and discuss a unit in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pth that integrates the us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best uses of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and discuss ideas for incorporat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o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952800" cy="4800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03933-42AD-4913-921D-6374DD4EA2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4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Looking at Visual Ranking in Actio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Benefits of Thinking Too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5.01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benefi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 benef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management benef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451"/>
              </a:spcBef>
              <a:buNone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635A7-EEA7-4BB1-8FC1-BE63057E32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roducing the Visual Ranking Too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760" y="1752120"/>
            <a:ext cx="82375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troducing List Ranking in the Classroo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5.02–5.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helps student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alyze and evaluate items in a 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dentify criteria for s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ioritize item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ain reason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e lists visually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gotiate and adjus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ew from multiple perspectiv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1A2F7-2D1C-4850-8F0E-FC80FFFDC2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roducing the Visual Ranking Too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37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Brainstorming a Lis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04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a l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, brainstorm a list of flower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hare your list with the whole clas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llapse items that are simila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Logging In as a Studen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0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 in as a stud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anking Flower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92E6-727E-430B-8DDE-99EA34E035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5: Using the Visual Ranking Tool to Target Thinking Skills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ntroducing the Visual Ranking Too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 Ranking and Comparing the Lis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5.0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k and compare the l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ank and provide rationale in Comments box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e and discuss your list with another te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and discuss the “class average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28040-DF29-4BAB-81DC-9DF5892CD0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mjmillhX</cp:lastModifiedBy>
  <dcterms:modified xsi:type="dcterms:W3CDTF">2008-03-31T23:25:52Z</dcterms:modified>
  <cp:revision>873</cp:revision>
  <dc:subject/>
  <dc:title>Slide 1</dc:title>
</cp:coreProperties>
</file>